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236C-F23A-422C-AEA0-138DF9DF9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DE84D-CD74-4652-A16C-99B4B7145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D5D5-6EC4-426F-90E1-BB861250D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FB98-2F19-4D1A-BCCC-FA25583130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B0DE-F9E6-4C44-9518-7422E01BD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D7B6-93D3-400A-BB4D-E6E320C0E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90B5-2199-4E29-8D03-4C4E9BC79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ACB9-C6C5-49CF-8D03-47432F540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7D65-8034-4A15-8F2E-547FB67C9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567E-D13F-441C-B90B-CE430E264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2FFD-F2ED-445C-B4C9-7991D204D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928F-CA6F-432A-B802-1967F856C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216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6048360"/>
            <a:ext cx="70164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61760" y="6605640"/>
            <a:ext cx="2376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u und Mythos -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23360" y="6570720"/>
            <a:ext cx="6206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2E7-5316-4BF4-B800-87FF715228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9280" y="5040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79280" y="4032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179280" y="302436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179280" y="201600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179280" y="1008000"/>
            <a:ext cx="701640" cy="98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70164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34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rau und Mythos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4005360"/>
            <a:ext cx="593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2002 -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24C9-F2D5-44D0-99DE-C4498F73A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eitpla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54936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5CAC-8274-444B-AE06-81035DBCF0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27079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Bewertungskriteri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7C23-9D02-4C24-9255-01526B55C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urch die beteiligten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fragebogen für die SchülerIn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-Aktivitä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0748-3602-4F0A-B6F6-FB2DE6D0B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Projekttea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3A A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B 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2 RG Bru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4 RG Me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d mehrere Lehrpers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2E0B-0A96-43D0-9B5A-DC1862F97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Ziele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issen über alte und neue Mythen erwei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eamarbeit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ommunikation und Kooperation online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elbstverantwortetes Lern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reativität und Information verbin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äsentieren und Visualisieren ler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31F9-ECCE-4788-98C7-FE83DB375F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as ist zu tun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354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uppen bil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os entwerf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idee entwickel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beitsteilung und Zusammenarbeit mit Partnergruppe planen (For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tageb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kt ausarb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ä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7FDE-249D-41D5-9430-B947DABFF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o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blioth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49EE-99E0-4F93-9BF2-C2895C9D4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Wie wird gearbeitet?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ie Projektarb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genverantwortlichk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steilung mit der Partnergrup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eln einha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ge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verantwortung fü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ganze Projek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CA9F-07E0-42F8-AE1A-02DBD24FAD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Gruppenbildu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Gru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4 Mitglie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uppenleit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munik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-Dok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DD92-A84B-493B-8646-4FC4B41B14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920" y="2781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1D7F-A363-49E5-973A-78269989D9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Themen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32400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th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y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az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emh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89080"/>
            <a:ext cx="32400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eni Riefenst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ra 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ylin Monr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ippi Langstrum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Jeanne d´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3DB9-BA2E-439E-AB93-01EF7384B1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7:54:37Z</dcterms:created>
  <dc:creator>ah</dc:creator>
  <dc:description/>
  <dc:language>en-US</dc:language>
  <cp:lastModifiedBy>ah</cp:lastModifiedBy>
  <dcterms:modified xsi:type="dcterms:W3CDTF">2003-09-29T14:25:02Z</dcterms:modified>
  <cp:revision>22</cp:revision>
  <dc:subject/>
  <dc:title>Folie 1</dc:title>
</cp:coreProperties>
</file>