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C24ED-A4B6-4FF3-8104-54E700FE08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B9A8E-1BAF-48D1-BA89-6330488CDC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A6C3B-271C-4F71-97D9-529347F594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C3B54-2EE6-43D5-ADA9-84C0122951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582F3-9A69-46EB-8218-198B044B3D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3A0FE-5481-4292-A92D-9F5BF6408D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C8FD4-AB58-4259-847D-60729AC592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DCC32-5F36-4845-83E7-4FE02ED1EE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5D62E-0EB4-45B4-B13A-AF3A84BA22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30FD8-091D-4ED8-B7B1-98AD8E7FCF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2EA48-2F27-4A35-87B3-4264F53770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5B2D2-AB57-448C-8811-9CD711BE76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81720"/>
            <a:ext cx="9144000" cy="2160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79280" y="6048360"/>
            <a:ext cx="70164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61760" y="6605640"/>
            <a:ext cx="2376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au und Mythos -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523360" y="6570720"/>
            <a:ext cx="6206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D70B-47CE-4967-ADE5-FD4B535867E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79280" y="504036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79280" y="403236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179280" y="302436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179280" y="2016000"/>
            <a:ext cx="701640" cy="98136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7"/>
          <a:stretch/>
        </p:blipFill>
        <p:spPr>
          <a:xfrm>
            <a:off x="179280" y="100800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8"/>
          <a:stretch/>
        </p:blipFill>
        <p:spPr>
          <a:xfrm>
            <a:off x="179280" y="0"/>
            <a:ext cx="701640" cy="98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2133360"/>
            <a:ext cx="7342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Frau und Mythos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63280" y="4005360"/>
            <a:ext cx="593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Arial"/>
              </a:rPr>
              <a:t>2002 -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EC2DD-A287-4867-BD85-A35D7F618E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85228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Zeitpla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516720" y="549360"/>
            <a:ext cx="172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CB984-E129-45DF-BDE6-7FA28AE51E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32000" y="27079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Bewertungskriterie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80352-2A9D-42FE-9C38-54E55F4268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 durch die beteiligten Lehrpers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sfragebogen für die SchülerIn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wert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-Aktivitä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DD7EE-BA07-4557-9295-57588BC001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Projektteam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3A A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4B 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2 RG Brune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4 RG Mer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und mehrere Lehrpers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64A68-3403-4D24-8E23-6D27A874D0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Ziele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issen über alte und neue Mythen erwei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eamarbeit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mmunikation und Kooperation online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elbstverantwortetes Lernen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reativität und Information verbin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räsentieren und Visualisieren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A1297-9D6D-41D4-9164-E2CCC25AC4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Was ist zu tun?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341360"/>
            <a:ext cx="7354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uppen bil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os entwerf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ktidee entwickel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beitsteilung und Zusammenarbeit mit Partnergruppe planen (For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kttageb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kt ausarbei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-Doku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ä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C50DF-6C30-4C6D-B30B-8D8A86A835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Wo wird gearbeitet?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las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blioth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C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AEC3E-D18B-43FB-998E-01F31CA7E5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Wie wird gearbeitet?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ie Projektarb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genverantwortlichk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beitsteilung mit der Partnergrup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eln einhal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mge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tverantwortung fü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s ganze Projek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636D5-BDEA-410A-A9D8-4269450E32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Gruppenbildung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 Grup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-4 Mitglie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uppenleit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mmunik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-Dok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3FCB3-2E35-4A39-B916-B7AA46DB3D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920" y="2781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Forum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78754-E9B7-4FCC-8743-38EE36EB73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Theme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32000" y="2060280"/>
            <a:ext cx="32400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g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yth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yd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azo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riemh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48360" y="2089080"/>
            <a:ext cx="324000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eni Riefenstah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ara Cr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arylin Monr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ippi Langstrum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Jeanne d´Ar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07D10-4445-454E-AA0B-23BE833111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" dur="1" fill="hold"/>
                                  <p:tgtEl>
                                    <p:spTgt spid="6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7T17:54:37Z</dcterms:created>
  <dc:creator>ah</dc:creator>
  <dc:description/>
  <dc:language>en-US</dc:language>
  <cp:lastModifiedBy>ah</cp:lastModifiedBy>
  <dcterms:modified xsi:type="dcterms:W3CDTF">2003-09-29T14:25:02Z</dcterms:modified>
  <cp:revision>22</cp:revision>
  <dc:subject/>
  <dc:title>Folie 1</dc:title>
</cp:coreProperties>
</file>