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88BB2-3F66-41D8-9952-EB8F320143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57E09-3C54-4D70-9439-CCB0BD2EFD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82C53-94B1-4572-ADD3-2085A9FDAC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C47B3-C523-42C5-BBDF-83CF88C255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7DBAA-93A0-4914-93B9-0BD3CC4497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66F4A-78DF-4032-AD6E-3D8623AE26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E7B73-3D90-42ED-AD72-7F4C891DB6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AE033-1004-4EF0-BDFF-ACA1329147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5581A-C039-4409-BEF3-7754BAEF6C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787C4-0983-463E-83B3-48CA58A637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185E9-42C6-4405-9AC7-D11F2B2A94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A08B5-B8B4-40A9-9969-272E87EB0C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81720"/>
            <a:ext cx="9144000" cy="2160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79280" y="6048360"/>
            <a:ext cx="70164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61760" y="6605640"/>
            <a:ext cx="2376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au und Mythos -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523360" y="6570720"/>
            <a:ext cx="6206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0215-4A8C-44DF-8C90-036A4C1A7D5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9280" y="504036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79280" y="403236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179280" y="302436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179280" y="2016000"/>
            <a:ext cx="701640" cy="98136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179280" y="100800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8"/>
          <a:stretch/>
        </p:blipFill>
        <p:spPr>
          <a:xfrm>
            <a:off x="179280" y="0"/>
            <a:ext cx="701640" cy="98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2133360"/>
            <a:ext cx="7342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Frau und Mythos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63280" y="4005360"/>
            <a:ext cx="593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Arial"/>
              </a:rPr>
              <a:t>2002 -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19B73-A1A0-48B7-B86E-6EB85134D26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85228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Zeitpla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16720" y="549360"/>
            <a:ext cx="17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D3BFA-B8EE-4D7A-B629-29C60753BD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32000" y="27079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Bewertungskriterie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47C09-DB18-4101-965B-F650703EE8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 durch die beteiligten Lehrpers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sfragebogen für die SchülerIn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wert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-Aktivitä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AA1C1-4A57-43BA-A2B1-870C015C37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Projektteam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3A A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4B 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2 RG Brune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4 RG Mer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und mehrere Lehrpers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F5CA5-F723-47D8-9E93-B101CCB920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Ziele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issen über alte und neue Mythen erwei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eamarbeit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mmunikation und Kooperation online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elbstverantwortetes Lernen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reativität und Information verbin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äsentieren und Visualisieren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2C75E-D88B-45BC-843C-0297994744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Was ist zu tun?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341360"/>
            <a:ext cx="7354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uppen bil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os entwerf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ktidee entwickel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beitsteilung und Zusammenarbeit mit Partnergruppe planen (For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kttageb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kt ausarbei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-Doku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ä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C64B9-6A94-46F8-9771-A6E6E54C77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Wo wird gearbeitet?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as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blioth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C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20791-C1F4-48F5-AFE2-65E0E7BAC1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Wie wird gearbeitet?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ie Projektarb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genverantwortlichk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beitsteilung mit der Partnergrup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eln einhal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ge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tverantwortung fü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s ganze Projek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3690E-710B-487E-9998-4C8D0F226B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Gruppenbildung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 Grup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4 Mitglie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uppenleit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mmunik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-Dok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7627B-F1B6-45E2-8D6C-F6F593F6C9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920" y="2781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Forum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C6CB4-6040-4989-AD36-0961D15611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Theme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32000" y="2060280"/>
            <a:ext cx="32400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g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yth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yd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azo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riemh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48360" y="2089080"/>
            <a:ext cx="324000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eni Riefenstah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ara Cr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arylin Monr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ippi Langstrum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Jeanne d´Ar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0DA3B-2374-43A6-8802-D2DE238D80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" dur="1" fill="hold"/>
                                  <p:tgtEl>
                                    <p:spTgt spid="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17:54:37Z</dcterms:created>
  <dc:creator>ah</dc:creator>
  <dc:description/>
  <dc:language>en-US</dc:language>
  <cp:lastModifiedBy>ah</cp:lastModifiedBy>
  <dcterms:modified xsi:type="dcterms:W3CDTF">2003-09-29T14:25:02Z</dcterms:modified>
  <cp:revision>22</cp:revision>
  <dc:subject/>
  <dc:title>Folie 1</dc:title>
</cp:coreProperties>
</file>