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377AF-BF04-4700-B6A4-DC7303276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D303-8585-4D43-9F4D-353788DCF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E3849-AC60-445A-8AAC-791D45F19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682C4-5534-4359-BEE3-E09C2BA6E2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BAB46-CE99-47E6-8F56-4194999396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D3431-0E97-4951-A166-6CE6DBC68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79086-F442-47CD-8C48-620D5D735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A689-B304-4853-86B8-B71E58479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5D391-10A9-4921-BC46-67803D7FC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98F3-06F0-4D8F-B4E9-1B3EB5A84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53043-D42B-4DA8-8524-A460CE2A2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4FC48-E866-4537-B43C-EAB1A8DAC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216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9280" y="6048360"/>
            <a:ext cx="70164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61760" y="6605640"/>
            <a:ext cx="237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u und Mythos -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23360" y="6570720"/>
            <a:ext cx="620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58EB-4DF3-4DED-984C-8711205021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5040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280" y="4032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179280" y="3024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179280" y="2016000"/>
            <a:ext cx="701640" cy="9813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179280" y="100800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179280" y="0"/>
            <a:ext cx="70164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34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rau und Mythos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63280" y="4005360"/>
            <a:ext cx="593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2002 -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AB26E-F3DF-4342-8D87-CEEF39F166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eitpla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54936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BEB2-CE71-44F2-96A2-9F3B8C225F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27079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Bewertungskriteri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D30FB-8EA6-4A67-BAC1-BA63139065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durch die beteiligten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sfragebogen für die SchülerIn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-Aktivitä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1D26C-D0C2-4D1D-A872-17E3EF8697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Projekttea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3A A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B 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 RG Bru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 RG Me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d mehrere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EA560-A515-4DC3-A2E0-4876AFDD35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ssen über alte und neue Mythen erwei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eamarbeit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mmunikation und Kooperation online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elbstverantwortetes Lern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reativität und Information verbi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äsentieren und Visualisier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DAF12-9749-4978-9D40-24F90CBC6A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as ist zu tun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354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ppen bil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os entwerf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idee entwickel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beitsteilung und Zusammenarbeit mit Partnergruppe planen (For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tageb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 ausarbe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ä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76D24-EC89-4C72-B380-46049BDA8A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o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lioth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B0BE6-8960-49DC-90AA-678413DAC0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ie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ie Projektarb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enverantwortlich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teilung mit der Partnergrup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ln einha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ge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verantwortung fü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ganze Proje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6E659-F730-44AF-8301-2C9F6B250A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Gruppenbildung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Gru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4 Mitglie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ppenlei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munik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FEAE7-40C0-491B-9014-D69D9A56D4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oru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DFB32-FAD2-40CF-84AF-0120A9B697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Them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32400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th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y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az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em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2089080"/>
            <a:ext cx="32400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eni Riefenst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ra 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rylin Monr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ippi Langstrum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Jeanne d´A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AC281-EAB3-4BF2-AA92-663D728753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7:54:37Z</dcterms:created>
  <dc:creator>ah</dc:creator>
  <dc:description/>
  <dc:language>en-US</dc:language>
  <cp:lastModifiedBy>ah</cp:lastModifiedBy>
  <dcterms:modified xsi:type="dcterms:W3CDTF">2003-09-29T14:25:02Z</dcterms:modified>
  <cp:revision>22</cp:revision>
  <dc:subject/>
  <dc:title>Folie 1</dc:title>
</cp:coreProperties>
</file>